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929-3A70-4696-BB87-A8BB88E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82B-A212-42D8-AE31-6B70087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41F-80C6-4E97-B097-033E518F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B39-C7D2-4D5C-90C1-366A99BA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B579-1A52-45E2-9866-35678270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C83-C290-410E-A4EF-65670701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28E5-51FD-4B5C-B242-E43792CB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2BC6-C539-4439-8853-D69F66D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37A-C9D8-4F4F-91BA-4D61720D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5385-FE4E-480F-8C47-CEE776E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6760-97F1-4265-AFCC-5B4EAF4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325-29C3-4CD2-81A3-0714622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019-C762-438B-B5B9-48A529A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B85-135A-49BD-BD02-26715D4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2C4-62AF-48D8-81D5-FE58885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ECF-B27E-46F9-AEA3-C40E62F6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7960-8633-4721-B07C-1FF77DEA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6D2-BFF2-4E8F-BBFB-69C63565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28A-C325-4522-807B-A4E423C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BEA-A5E0-4492-9A40-8CF157B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E2D-6096-457F-9F02-04426CF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969-1E43-4597-A5A0-E50D998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653-54CA-4B9E-9E2C-386CA22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E01-B846-470B-A666-6DA9DD1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0736-7C05-4817-AAED-1FCFC411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8C19-18A7-4230-8467-CD808E60C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51400"/>
            <a:ext cx="777240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Neutrality Acts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Lend-Leas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Neutrality A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prohibited export of “arms, ammunition, &amp; implements of war” to foreign, warri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warring nations could get any item except 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lifted arms embargo, putting all trade with warring nations under terms of “cash-&amp;-car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ny item could be sold as long as it was immediately paid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Lend-Lea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United States would provide a country with supplies needed to figh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the country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lfae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have to pay the United States back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United States contracted Lend-Lease agreements with 30+ countries, worth $50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program was designed to allow America to indirectly help defea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Pearl Harb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December 7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hundreds of Japanese bombers &amp; fighters attacked naval base Pearl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2,400 Americans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nearly 200 aircraft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ll but 8 battleships were sunk/dam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December 8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 US declares war o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December 11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 Germany &amp; Italy declare war on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On a sheet of paper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  <a:ea typeface="Times New Roman"/>
              </a:rPr>
              <a:t>Answer the follow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at were the Neutrality Acts and the Lend-Lease program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at did they do for 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How did they affect the econom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Do you believe these policies kept the United States neutr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cerdote, Kevin R.</dc:creator>
  <dc:description/>
  <dc:language>en-US</dc:language>
  <cp:lastModifiedBy>Sacerdote, Kevin R.</cp:lastModifiedBy>
  <dcterms:modified xsi:type="dcterms:W3CDTF">2016-01-20T13:36:16Z</dcterms:modified>
  <cp:revision>9</cp:revision>
  <dc:subject/>
  <dc:title>PowerPoint Presentation</dc:title>
</cp:coreProperties>
</file>